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C84-B744-4ABA-9B04-D8548752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990-416E-4E9B-8C11-97CE7ECB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4AB-CE4D-45B0-9341-AF1EB564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CEB-BBB4-44E6-8639-B82B858A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931-583A-426E-8169-C1ADB660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F1C-9FA7-4D25-B202-A3509750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E26-341A-419C-8011-0E19B176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610-C89F-4DB3-8F25-35392D49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3C9-6AF8-43C4-8D8A-13825DAD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186-17B8-4C13-8C99-580E1655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CF8-CA52-432E-88B3-3E11CE41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E1F-837B-4CD8-86A6-DB9EE0FF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9AE2-64F8-48ED-9985-44B52F570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629400" y="1990800"/>
            <a:ext cx="2324160" cy="159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52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60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19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I have fish. They’re …… f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430400">
            <a:off x="3047760" y="5028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081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0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94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5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4"/>
          <a:stretch/>
        </p:blipFill>
        <p:spPr>
          <a:xfrm>
            <a:off x="6553080" y="1981080"/>
            <a:ext cx="2324160" cy="15811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5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652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229440" y="2046240"/>
            <a:ext cx="475920" cy="848880"/>
            <a:chOff x="6229440" y="2046240"/>
            <a:chExt cx="475920" cy="848880"/>
          </a:xfrm>
        </p:grpSpPr>
        <p:sp>
          <p:nvSpPr>
            <p:cNvPr id="660" name=""/>
            <p:cNvSpPr/>
            <p:nvPr/>
          </p:nvSpPr>
          <p:spPr>
            <a:xfrm>
              <a:off x="6491520" y="25369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04760" y="27961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29440" y="26416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33920" y="2597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04760" y="229968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14280" y="219492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52360" y="204624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2280" y="11872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That’s a snail. It’s small. …… name is Sa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429000" y="27432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00600" y="28954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010280" y="358128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67280" y="41148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90920" y="51814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10430400">
            <a:off x="1828080" y="21333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238880" y="10666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90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694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1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786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1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815" dur="5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6000"/>
                            </p:stCondLst>
                            <p:childTnLst>
                              <p:par>
                                <p:cTn id="8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29400" y="2133720"/>
            <a:ext cx="2076480" cy="156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118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126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1219320"/>
            <a:ext cx="89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.……. names are Lola and S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430400">
            <a:off x="3047760" y="5028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40" y="10666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The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56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160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145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553080" y="1981080"/>
            <a:ext cx="2190960" cy="165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186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172200" y="1962000"/>
            <a:ext cx="475920" cy="849240"/>
            <a:chOff x="6172200" y="1962000"/>
            <a:chExt cx="475920" cy="849240"/>
          </a:xfrm>
        </p:grpSpPr>
        <p:sp>
          <p:nvSpPr>
            <p:cNvPr id="194" name=""/>
            <p:cNvSpPr/>
            <p:nvPr/>
          </p:nvSpPr>
          <p:spPr>
            <a:xfrm>
              <a:off x="643428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4752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7668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4752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704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9512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219320"/>
            <a:ext cx="89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…</a:t>
            </a: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... name is Rob. He’s gree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066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3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227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234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629400" y="1990800"/>
            <a:ext cx="2324160" cy="1590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252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260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2193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Hi! Is this …… hou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0430400">
            <a:off x="3047760" y="5028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19400" y="11145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y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1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295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281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629400" y="1990800"/>
            <a:ext cx="2324160" cy="15904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322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330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12193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She’s Lola. I’m ……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1066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58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362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377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6629400" y="1990800"/>
            <a:ext cx="2324160" cy="15904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388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396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11430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We have a house. It’s …… sweet h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266688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581280"/>
            <a:ext cx="121896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26668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50292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430400">
            <a:off x="1828080" y="20566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10047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26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430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452" dur="5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1066680" y="2971800"/>
            <a:ext cx="2448000" cy="16858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6629400" y="2000160"/>
            <a:ext cx="2190600" cy="16574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581280" y="3200400"/>
            <a:ext cx="475920" cy="848880"/>
            <a:chOff x="3581280" y="3200400"/>
            <a:chExt cx="475920" cy="848880"/>
          </a:xfrm>
        </p:grpSpPr>
        <p:sp>
          <p:nvSpPr>
            <p:cNvPr id="456" name=""/>
            <p:cNvSpPr/>
            <p:nvPr/>
          </p:nvSpPr>
          <p:spPr>
            <a:xfrm>
              <a:off x="3843360" y="369108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56600" y="395028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81280" y="379584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85760" y="37519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56600" y="34538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66120" y="33490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04200" y="32004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464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12193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……</a:t>
            </a: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names are Mark and Ji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0430400">
            <a:off x="3047760" y="5028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1066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94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498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534" dur="5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1200240" y="2971800"/>
            <a:ext cx="2533680" cy="19144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523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2280" y="12193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I’m blue. ……name is Bub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10430400">
            <a:off x="3047760" y="5028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05120" y="10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553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557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4" name="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324480" y="266688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3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4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5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6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7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8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9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630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2324160" cy="15811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583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591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2280" y="121932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They are pink but …….. fins are pur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27432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800600" y="28954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10280" y="358128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67280" y="41148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90920" y="51814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10430400">
            <a:off x="1828080" y="21333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15000" y="10666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the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22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626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719" dur="5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20:46:00Z</dcterms:created>
  <dc:creator>Gabi Sandru</dc:creator>
  <dc:description/>
  <dc:language>en-US</dc:language>
  <cp:lastModifiedBy>Gabi Sandru</cp:lastModifiedBy>
  <dcterms:modified xsi:type="dcterms:W3CDTF">2009-11-22T20:46:05Z</dcterms:modified>
  <cp:revision>1</cp:revision>
  <dc:subject>poss adjectives</dc:subject>
  <dc:title>Possessives</dc:title>
</cp:coreProperties>
</file>